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3E53-FAA1-423C-9D64-F3AF02E4775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351D-944E-4974-8661-1D4A68D3CD5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D3E-2ABE-44A0-A4A5-70773134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F2D-C39F-4C9A-ADD1-D1FE484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3C3-833B-464B-ACB6-F465E6AA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0AE-2170-400A-B867-57A355D1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4B0-A181-4EEF-9E6E-6F62537D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E01-8F95-4CF6-89EA-69F6EFC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9D4-9DCB-424B-8962-D901A4D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4F7-C30B-4AA3-BB48-2BF58B9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8AF-6E4D-4B3B-A2D5-84D1A321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1DA-C55C-4A6A-9B75-AABFCD9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4E0-B807-4F48-BB8A-18E5E93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27E-9D76-42D9-A0C4-96C9510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0AB-8810-4222-B56B-E2151104B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J A N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10 ISLANDS (PACKAGE – I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2-27T12:35:21Z</dcterms:modified>
  <cp:revision>257</cp:revision>
  <dc:subject/>
  <dc:title>Slide 1</dc:title>
</cp:coreProperties>
</file>