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907588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7520" y="741240"/>
            <a:ext cx="256212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BF1F-D4DA-48FE-9D2E-72B8DE2F3074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2117880" y="741240"/>
            <a:ext cx="2562120" cy="3702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4D5E-5B06-421A-BF36-D8A58BD1B5A5}" type="slidenum">
              <a:rPr b="0" lang="en-US" sz="1200" spc="-1" strike="noStrike">
                <a:solidFill>
                  <a:srgbClr val="ff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3C4-A417-430B-A9B9-9C10E0B4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04C-066B-4E89-A7BC-6685059F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9797-A455-4E35-AB5A-FFA88687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D91-A5C2-4666-85EA-C1F901AE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67F-F70A-46FC-99C9-C48EA7E2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7032-E9DA-4704-91D3-40BED007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4D26-056B-45CC-97BE-2518EE44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1B9F-2651-4A74-B6DF-11A4AA0C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A5B7-E309-43B8-ABE7-D051A32D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98B7-D4AD-44F3-B7D3-09557D81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8B2-9977-4551-AD29-E8B61587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1D6-7FFF-4659-8C64-64813083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435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4093-95BC-4A43-9605-F82F72ECC4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8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1"/>
          <p:cNvSpPr/>
          <p:nvPr/>
        </p:nvSpPr>
        <p:spPr>
          <a:xfrm>
            <a:off x="879480" y="792468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doni MT Black"/>
              </a:rPr>
              <a:t>F E B R U A R Y   -   2 0 1 8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9" name="Text Box 80"/>
          <p:cNvSpPr/>
          <p:nvPr/>
        </p:nvSpPr>
        <p:spPr>
          <a:xfrm>
            <a:off x="879480" y="1282680"/>
            <a:ext cx="5562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CONSULTANCY SERVICES FOR DESIGN AND SUPERVISION OF RAIN WATER HARVESTING IN 8 ISLANDS (PACKAGE – III),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0" name="Picture 65" descr="stc"/>
          <p:cNvPicPr/>
          <p:nvPr/>
        </p:nvPicPr>
        <p:blipFill>
          <a:blip r:embed="rId1"/>
          <a:stretch/>
        </p:blipFill>
        <p:spPr>
          <a:xfrm>
            <a:off x="268200" y="8788320"/>
            <a:ext cx="525600" cy="2523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4"/>
          <p:cNvSpPr/>
          <p:nvPr/>
        </p:nvSpPr>
        <p:spPr>
          <a:xfrm>
            <a:off x="1049400" y="8837640"/>
            <a:ext cx="363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2d050"/>
                </a:solidFill>
                <a:latin typeface="Tahoma"/>
                <a:ea typeface="Tahoma"/>
              </a:rPr>
              <a:t>SHAH TECHNICAL CONSULTANTS PVT. LTD.,  INDIA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Rectangle 64"/>
          <p:cNvSpPr/>
          <p:nvPr/>
        </p:nvSpPr>
        <p:spPr>
          <a:xfrm>
            <a:off x="1049400" y="9161640"/>
            <a:ext cx="19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Tahoma"/>
              </a:rPr>
              <a:t>IN ASSOCIATION  WITH</a:t>
            </a:r>
            <a:endParaRPr b="0" lang="en-US" sz="9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6600" y="77760"/>
            <a:ext cx="760320" cy="798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4"/>
          <p:cNvSpPr/>
          <p:nvPr/>
        </p:nvSpPr>
        <p:spPr>
          <a:xfrm>
            <a:off x="793800" y="66600"/>
            <a:ext cx="6064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Black"/>
              </a:rPr>
              <a:t>MINISTRY OF ENVIRONMENT AND ENERGY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MALE: REPUBLIC OF MALDIVES</a:t>
            </a:r>
            <a:endParaRPr b="0" lang="en-US" sz="16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5" name="Picture 20" descr="DTM1"/>
          <p:cNvPicPr/>
          <p:nvPr/>
        </p:nvPicPr>
        <p:blipFill>
          <a:blip r:embed="rId3"/>
          <a:stretch/>
        </p:blipFill>
        <p:spPr>
          <a:xfrm>
            <a:off x="260280" y="9340920"/>
            <a:ext cx="480960" cy="3906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6"/>
          <p:cNvSpPr/>
          <p:nvPr/>
        </p:nvSpPr>
        <p:spPr>
          <a:xfrm>
            <a:off x="965160" y="9437760"/>
            <a:ext cx="547704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fr-FR" sz="1000" spc="-1" strike="noStrike">
                <a:solidFill>
                  <a:srgbClr val="dedefa"/>
                </a:solidFill>
                <a:latin typeface="Tahoma"/>
              </a:rPr>
              <a:t>DEVELOPMENT TECHNOLOGIES MALDIVES, MALDIVES </a:t>
            </a:r>
            <a:endParaRPr b="0" lang="en-US" sz="1000" spc="-1" strike="noStrike">
              <a:solidFill>
                <a:srgbClr val="ff0066"/>
              </a:solidFill>
              <a:latin typeface="Arial"/>
            </a:endParaRPr>
          </a:p>
        </p:txBody>
      </p:sp>
      <p:pic>
        <p:nvPicPr>
          <p:cNvPr id="57" name="Picture 16" descr=""/>
          <p:cNvPicPr/>
          <p:nvPr/>
        </p:nvPicPr>
        <p:blipFill>
          <a:blip r:embed="rId4"/>
          <a:stretch/>
        </p:blipFill>
        <p:spPr>
          <a:xfrm>
            <a:off x="3657600" y="4332240"/>
            <a:ext cx="2770200" cy="191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"/>
          <p:cNvPicPr/>
          <p:nvPr/>
        </p:nvPicPr>
        <p:blipFill>
          <a:blip r:embed="rId5"/>
          <a:stretch/>
        </p:blipFill>
        <p:spPr>
          <a:xfrm>
            <a:off x="1103400" y="4359240"/>
            <a:ext cx="2554200" cy="1889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6"/>
          <a:stretch/>
        </p:blipFill>
        <p:spPr>
          <a:xfrm>
            <a:off x="1103400" y="2281320"/>
            <a:ext cx="2558880" cy="2077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\\Server\2017 projects\Maldives - 4 water supply documents\trs\co camera pics\105_2012\IMG_0051.JPG"/>
          <p:cNvPicPr/>
          <p:nvPr/>
        </p:nvPicPr>
        <p:blipFill>
          <a:blip r:embed="rId7"/>
          <a:stretch/>
        </p:blipFill>
        <p:spPr>
          <a:xfrm>
            <a:off x="3672000" y="2281320"/>
            <a:ext cx="2770200" cy="2077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8"/>
          <p:cNvSpPr/>
          <p:nvPr/>
        </p:nvSpPr>
        <p:spPr>
          <a:xfrm>
            <a:off x="0" y="64818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V O L U M E  I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2" name="Text Box 38"/>
          <p:cNvSpPr/>
          <p:nvPr/>
        </p:nvSpPr>
        <p:spPr>
          <a:xfrm>
            <a:off x="0" y="69343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B I D D I N G   D O C U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3" name="Text Box 38"/>
          <p:cNvSpPr/>
          <p:nvPr/>
        </p:nvSpPr>
        <p:spPr>
          <a:xfrm>
            <a:off x="0" y="74674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36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3a3c2"/>
                </a:solidFill>
                <a:latin typeface="Arial"/>
              </a:rPr>
              <a:t>E M P L O Y E R’S   R E Q U I R E M E N T</a:t>
            </a:r>
            <a:endParaRPr b="0" lang="en-US" sz="2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3T05:53:56Z</dcterms:created>
  <dc:creator>user</dc:creator>
  <dc:description/>
  <dc:language>en-US</dc:language>
  <cp:lastModifiedBy>stc123</cp:lastModifiedBy>
  <cp:lastPrinted>2016-04-26T05:25:12Z</cp:lastPrinted>
  <dcterms:modified xsi:type="dcterms:W3CDTF">2018-03-12T06:56:35Z</dcterms:modified>
  <cp:revision>258</cp:revision>
  <dc:subject/>
  <dc:title>Slide 1</dc:title>
</cp:coreProperties>
</file>