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907588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0066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17520" y="741240"/>
            <a:ext cx="256212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b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0066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0D017-0314-43C8-9F65-ED709B843B01}" type="slidenum">
              <a:rPr b="0" lang="en-US" sz="1200" spc="-1" strike="noStrike">
                <a:solidFill>
                  <a:srgbClr val="ff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2117880" y="741240"/>
            <a:ext cx="2562120" cy="370224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76062-E77A-41F7-B0BF-46B36EA54C12}" type="slidenum">
              <a:rPr b="0" lang="en-US" sz="1200" spc="-1" strike="noStrike">
                <a:solidFill>
                  <a:srgbClr val="ff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AAC4-B30E-4CA7-9417-DC84F0125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9A24-387B-40CA-8B11-951992AE1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B304-4765-4542-A0B9-E63073A0B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BA15-AC58-4ABE-B5D0-076E2CEBB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9E6B-4C55-4EA8-AC56-59EB6F3FF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6B28-B7E3-41A2-9607-DF8BC8072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766D-8726-4A44-8996-B10125628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DC51-8238-4A3A-B704-88F51A956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B31F-2B94-4FD3-9DE4-F0682B32D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BDAC-3658-4824-8B5A-70622FDF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0B3F-3BB5-4DF6-BEAD-4243B8BF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6FD5-D498-47DB-A9EA-EC340A57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43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5BEE3-FF54-4FB5-A0DD-4DD3A7051FA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51"/>
          <p:cNvSpPr/>
          <p:nvPr/>
        </p:nvSpPr>
        <p:spPr>
          <a:xfrm>
            <a:off x="879480" y="792468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doni MT Black"/>
              </a:rPr>
              <a:t>F E B R U A R Y   -   2 0 1 8</a:t>
            </a:r>
            <a:endParaRPr b="0" lang="en-US" sz="18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9" name="Text Box 80"/>
          <p:cNvSpPr/>
          <p:nvPr/>
        </p:nvSpPr>
        <p:spPr>
          <a:xfrm>
            <a:off x="879480" y="1282680"/>
            <a:ext cx="55627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160" bIns="3816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NSULTANCY SERVICES FOR DESIGN AND SUPERVISION OF RAIN WATER HARVESTING IN 9 ISLANDS (PACKAGE – IV), MALDIVES</a:t>
            </a:r>
            <a:endParaRPr b="0" lang="en-US" sz="1600" spc="-1" strike="noStrike">
              <a:solidFill>
                <a:srgbClr val="ff0066"/>
              </a:solidFill>
              <a:latin typeface="Arial"/>
            </a:endParaRPr>
          </a:p>
        </p:txBody>
      </p:sp>
      <p:pic>
        <p:nvPicPr>
          <p:cNvPr id="50" name="Picture 65" descr="stc"/>
          <p:cNvPicPr/>
          <p:nvPr/>
        </p:nvPicPr>
        <p:blipFill>
          <a:blip r:embed="rId1"/>
          <a:stretch/>
        </p:blipFill>
        <p:spPr>
          <a:xfrm>
            <a:off x="268200" y="8788320"/>
            <a:ext cx="525600" cy="2523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4"/>
          <p:cNvSpPr/>
          <p:nvPr/>
        </p:nvSpPr>
        <p:spPr>
          <a:xfrm>
            <a:off x="1049400" y="8837640"/>
            <a:ext cx="3639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92d050"/>
                </a:solidFill>
                <a:latin typeface="Tahoma"/>
                <a:ea typeface="Tahoma"/>
              </a:rPr>
              <a:t>SHAH TECHNICAL CONSULTANTS PVT. LTD.,  INDIA</a:t>
            </a:r>
            <a:endParaRPr b="0" lang="en-US" sz="1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2" name="Rectangle 64"/>
          <p:cNvSpPr/>
          <p:nvPr/>
        </p:nvSpPr>
        <p:spPr>
          <a:xfrm>
            <a:off x="1049400" y="9161640"/>
            <a:ext cx="199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Tahoma"/>
              </a:rPr>
              <a:t>IN ASSOCIATION  WITH</a:t>
            </a:r>
            <a:endParaRPr b="0" lang="en-US" sz="900" spc="-1" strike="noStrike">
              <a:solidFill>
                <a:srgbClr val="ff0066"/>
              </a:solidFill>
              <a:latin typeface="Arial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2"/>
          <a:stretch/>
        </p:blipFill>
        <p:spPr>
          <a:xfrm>
            <a:off x="66600" y="77760"/>
            <a:ext cx="760320" cy="798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4"/>
          <p:cNvSpPr/>
          <p:nvPr/>
        </p:nvSpPr>
        <p:spPr>
          <a:xfrm>
            <a:off x="793800" y="66600"/>
            <a:ext cx="606420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 Black"/>
              </a:rPr>
              <a:t>MINISTRY OF ENVIRONMENT AND ENERGY</a:t>
            </a: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00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Black"/>
              </a:rPr>
              <a:t>MALE: REPUBLIC OF MALDIVES</a:t>
            </a:r>
            <a:endParaRPr b="0" lang="en-US" sz="1600" spc="-1" strike="noStrike">
              <a:solidFill>
                <a:srgbClr val="ff0066"/>
              </a:solidFill>
              <a:latin typeface="Arial"/>
            </a:endParaRPr>
          </a:p>
        </p:txBody>
      </p:sp>
      <p:pic>
        <p:nvPicPr>
          <p:cNvPr id="55" name="Picture 20" descr="DTM1"/>
          <p:cNvPicPr/>
          <p:nvPr/>
        </p:nvPicPr>
        <p:blipFill>
          <a:blip r:embed="rId3"/>
          <a:stretch/>
        </p:blipFill>
        <p:spPr>
          <a:xfrm>
            <a:off x="260280" y="9340920"/>
            <a:ext cx="480960" cy="3906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96"/>
          <p:cNvSpPr/>
          <p:nvPr/>
        </p:nvSpPr>
        <p:spPr>
          <a:xfrm>
            <a:off x="965160" y="9437760"/>
            <a:ext cx="547704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fr-FR" sz="1000" spc="-1" strike="noStrike">
                <a:solidFill>
                  <a:srgbClr val="dedefa"/>
                </a:solidFill>
                <a:latin typeface="Tahoma"/>
              </a:rPr>
              <a:t>DEVELOPMENT TECHNOLOGIES MALDIVES, MALDIVES </a:t>
            </a:r>
            <a:endParaRPr b="0" lang="en-US" sz="1000" spc="-1" strike="noStrike">
              <a:solidFill>
                <a:srgbClr val="ff0066"/>
              </a:solidFill>
              <a:latin typeface="Arial"/>
            </a:endParaRPr>
          </a:p>
        </p:txBody>
      </p:sp>
      <p:pic>
        <p:nvPicPr>
          <p:cNvPr id="57" name="Picture 16" descr=""/>
          <p:cNvPicPr/>
          <p:nvPr/>
        </p:nvPicPr>
        <p:blipFill>
          <a:blip r:embed="rId4"/>
          <a:stretch/>
        </p:blipFill>
        <p:spPr>
          <a:xfrm>
            <a:off x="3657600" y="4332240"/>
            <a:ext cx="2770200" cy="1916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" descr=""/>
          <p:cNvPicPr/>
          <p:nvPr/>
        </p:nvPicPr>
        <p:blipFill>
          <a:blip r:embed="rId5"/>
          <a:stretch/>
        </p:blipFill>
        <p:spPr>
          <a:xfrm>
            <a:off x="1103400" y="4359240"/>
            <a:ext cx="2554200" cy="1889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" descr=""/>
          <p:cNvPicPr/>
          <p:nvPr/>
        </p:nvPicPr>
        <p:blipFill>
          <a:blip r:embed="rId6"/>
          <a:stretch/>
        </p:blipFill>
        <p:spPr>
          <a:xfrm>
            <a:off x="1103400" y="2281320"/>
            <a:ext cx="2558880" cy="2077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\\Server\2017 projects\Maldives - 4 water supply documents\trs\co camera pics\105_2012\IMG_0051.JPG"/>
          <p:cNvPicPr/>
          <p:nvPr/>
        </p:nvPicPr>
        <p:blipFill>
          <a:blip r:embed="rId7"/>
          <a:stretch/>
        </p:blipFill>
        <p:spPr>
          <a:xfrm>
            <a:off x="3672000" y="2281320"/>
            <a:ext cx="2770200" cy="20779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8"/>
          <p:cNvSpPr/>
          <p:nvPr/>
        </p:nvSpPr>
        <p:spPr>
          <a:xfrm>
            <a:off x="0" y="648180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36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3a3c2"/>
                </a:solidFill>
                <a:latin typeface="Arial"/>
              </a:rPr>
              <a:t>V O L U M E  I</a:t>
            </a: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2" name="Text Box 38"/>
          <p:cNvSpPr/>
          <p:nvPr/>
        </p:nvSpPr>
        <p:spPr>
          <a:xfrm>
            <a:off x="0" y="693432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36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3a3c2"/>
                </a:solidFill>
                <a:latin typeface="Arial"/>
              </a:rPr>
              <a:t>B I D D I N G   D O C U M E N T</a:t>
            </a: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3" name="Text Box 38"/>
          <p:cNvSpPr/>
          <p:nvPr/>
        </p:nvSpPr>
        <p:spPr>
          <a:xfrm>
            <a:off x="0" y="746748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36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3a3c2"/>
                </a:solidFill>
                <a:latin typeface="Arial"/>
              </a:rPr>
              <a:t>E M P L O Y E R’S   R E Q U I R E M E N T</a:t>
            </a: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3T05:53:56Z</dcterms:created>
  <dc:creator>user</dc:creator>
  <dc:description/>
  <dc:language>en-US</dc:language>
  <cp:lastModifiedBy>stc123</cp:lastModifiedBy>
  <cp:lastPrinted>2016-04-26T05:25:12Z</cp:lastPrinted>
  <dcterms:modified xsi:type="dcterms:W3CDTF">2018-03-12T06:56:18Z</dcterms:modified>
  <cp:revision>259</cp:revision>
  <dc:subject/>
  <dc:title>Slide 1</dc:title>
</cp:coreProperties>
</file>