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7480" cy="466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93840" y="0"/>
            <a:ext cx="3057480" cy="466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90160" y="701640"/>
            <a:ext cx="46767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6320" y="4443120"/>
            <a:ext cx="5640480" cy="4211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888400"/>
            <a:ext cx="3057480" cy="466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93840" y="8888400"/>
            <a:ext cx="3057480" cy="466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F9326A8-82EF-45C8-8D81-094F57907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94200" y="8888400"/>
            <a:ext cx="3057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0D7A582-CD65-48A9-9E7E-43793EFE1E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6320" y="4443120"/>
            <a:ext cx="56404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94200" y="8888400"/>
            <a:ext cx="3057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169BA5C-35DB-4DAE-882C-36041AC0C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6320" y="4443120"/>
            <a:ext cx="56404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94200" y="8888400"/>
            <a:ext cx="3057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CCF6499-C221-44DC-AF84-8DEB70F43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6320" y="4443120"/>
            <a:ext cx="56404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94200" y="8888400"/>
            <a:ext cx="3057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D770117-2C8E-416E-9206-16D80E7BBC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6320" y="4443120"/>
            <a:ext cx="56404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94200" y="8888400"/>
            <a:ext cx="3057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8E1D529-2B68-45AB-BE31-A5903C94E9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6320" y="4443120"/>
            <a:ext cx="56404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F1F-B63C-4C9B-BEBB-AA0454A1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D51-1286-4020-BD9A-66BEA4A0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099-0C7C-402E-B9B2-6A210F3E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CB1-C528-4698-B8CB-7980B6F8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D7A4-3D76-4AB3-AB24-321DA1BD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383C-F00F-4E49-86BD-EAE60888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E118-C2A4-4F2D-9F27-2C68D2F2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EC53-F9B1-4B09-9410-B813D893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8FC4-9D53-482E-972D-7D7571C3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F4DB-E932-494F-A22A-5F28D922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2DAB-BF74-46F6-9EFC-9492B7E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2BD-6181-4504-8D68-2D8309B4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7D1F-3E7C-4A70-9DB4-2763D306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9C97-A759-408B-82B4-63834A61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06AB-DD20-46A5-B7B7-8C352C88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ADF9-7775-4A54-8708-D63DB207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BBB0-A394-4887-B410-CCDE0344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C8E31-D77E-4430-89BF-0E9BE833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FEE64-A6D2-4ADF-8A9C-67DC8900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D7911-B349-46E6-9F1E-47195911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61BCF-2EE3-4D60-AC9D-804ABE10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AFBD5-5998-4EF1-9732-B9A6C56C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1CC-E3CD-4CB5-831A-4107638D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21DE5-2BF1-4A85-B721-7FD97809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6D41D-F97C-46C5-AA06-693AF446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2C16A-82DF-4238-A6A3-57E9A15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420D5-C53B-4628-BA18-5F299745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71310-9C6E-435D-B16D-9870A1F5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C10E2-C442-42D8-B80C-F2603DBB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54B01-5EFE-403C-9148-8D02427F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F5FE-1A6F-4E0B-B997-48ABF69B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755B-16B1-469F-B630-01265224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85BFE-797D-4780-AE0B-224D9185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C28-0812-4DD0-B74C-17050084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B232-BE18-494B-B9AA-2F174D52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4326-B292-4C6C-BB03-71D0C7DF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6788-B5D7-4668-BB8E-F67DD13F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5996-0C34-4347-8854-6BEE2061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20796-AA21-49FE-B092-D37EBC85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9E6F-0848-40F4-8856-74D703E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66654-ACB8-4B45-A029-5CC6C87B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F318-387F-4298-A781-61E322C2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F95CC-B268-46B9-B789-A85F75DE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C2351-EA9E-4F1C-ADAF-17D22FF8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B34-E57B-45F3-8765-3EC9F6CB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C0DB9-D17C-4235-A347-8A3E1301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03141-5679-4EDD-AF28-11C443A8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D0685-9C7F-4BF2-A04B-DF3B3CCA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706F4-D065-41AD-AC2A-8531B9AB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545AD-AEB3-4AA6-AEC0-263F82B0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2E846-D40C-40B2-BF6F-91B28D8F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A4DC8-088C-4CE9-889A-C421712B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76E01-CC04-447A-88C8-1E8A6CF3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85515-833F-4A84-A815-4058D3D1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02098-0446-46CC-9EBB-70E1AB4D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4F7-BF1F-4677-839D-728B136C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56FD2-2FD0-4750-9712-AAAB87C6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5B057-C497-4B12-A8D1-1CA22C7E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C087A-A781-46BD-9FFA-09F7D5D3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6236B-BF2B-4C31-88A7-853F08CD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D0982-1EA4-4A3D-BEA5-4E9CABB6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8EC9B-C94B-4793-BD01-E3FA8DA7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DEF47-D34D-4D8F-BA16-1D87566D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72D98-CEB0-4F0A-8115-0A83D2D4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50D47-ED12-49A4-9647-ADD97BD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5F81C-A097-4C02-9532-5FA05FE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D59-51CE-4C60-80B1-59A33866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6899E-39A4-48B0-A3DE-0116EF24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8330C-7FAD-47F5-B27C-C2A9FFE4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5BC38-ECD5-474B-8D1C-83B1B01D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76276-2CEC-46AC-A12D-E635DB9E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8FE63-4A7E-454F-9467-8E08A9A2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69ACF-E0F4-4020-AFF4-477E8F75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DD5A4-2084-453D-9A2B-780705D6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91725-6DB0-4A8D-B58B-0D7EB35F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75A95-D6BF-4E79-8A05-FAEF7855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ABF7A-5D7E-433C-AF0A-230CFE9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FC6-13F5-4FBF-9F44-DED43252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1D572-6968-4203-A2BC-4F5C247A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B6E26-BF13-41F5-9E74-A30953F1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745AE-64DA-46EB-A685-1FF9C649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1DACF-B930-4AF0-9B10-9684DD27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B9FA1-676F-4FEB-96EA-1E106E6E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F60-92F9-4E97-8ADB-F911CE43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e4c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e4c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C4EE-D01A-4232-A6CE-E66B058B01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e4c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edd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edd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f6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e4c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f6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e4c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e4c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AB64-D3E8-441A-8C03-B701AB70E3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e4c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e4c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9A63-3837-401B-982F-E488C2B2DD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e4c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edd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edd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f6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e4c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f6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e4c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e4c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2AB2-157A-46F8-96D2-335B548697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e4c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e4c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D119-77F2-4855-8EF0-AFED564088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e4c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e4c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91EF-C7E5-4D6F-9ACA-8700AC37B2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e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e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D4F3-668F-48ED-B1A7-871124F1A1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2361960" y="57913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400" spc="-1" strike="noStrike">
                <a:solidFill>
                  <a:srgbClr val="000000"/>
                </a:solidFill>
                <a:latin typeface="Faruma"/>
                <a:cs typeface="Faruma"/>
              </a:rPr>
              <a:t>މިނިސްޓްރީ ފިނޭންސް އެންޑް ޓެރެޜަރީ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E9C5-0498-4797-B53B-25450E0ED28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0" name="Picture 6" descr="ni9shaan"/>
          <p:cNvPicPr/>
          <p:nvPr/>
        </p:nvPicPr>
        <p:blipFill>
          <a:blip r:embed="rId1"/>
          <a:stretch/>
        </p:blipFill>
        <p:spPr>
          <a:xfrm>
            <a:off x="8153280" y="228600"/>
            <a:ext cx="611280" cy="685800"/>
          </a:xfrm>
          <a:prstGeom prst="rect">
            <a:avLst/>
          </a:prstGeom>
          <a:ln w="0">
            <a:noFill/>
          </a:ln>
        </p:spPr>
      </p:pic>
      <p:sp>
        <p:nvSpPr>
          <p:cNvPr id="361" name="Subtitle 2"/>
          <p:cNvSpPr/>
          <p:nvPr/>
        </p:nvSpPr>
        <p:spPr>
          <a:xfrm>
            <a:off x="1600200" y="342900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4617b"/>
                </a:solidFill>
                <a:latin typeface="Cambria"/>
                <a:cs typeface="A_Faruma"/>
              </a:rPr>
              <a:t>ނަތީޖާއަށް އަމާޒުކޮށް (</a:t>
            </a:r>
            <a:r>
              <a:rPr b="0" lang="dv-MV" sz="1800" spc="-1" strike="noStrike">
                <a:solidFill>
                  <a:srgbClr val="04617b"/>
                </a:solidFill>
                <a:latin typeface="Cambria"/>
                <a:ea typeface="A_Faruma"/>
              </a:rPr>
              <a:t>1</a:t>
            </a:r>
            <a:r>
              <a:rPr b="0" lang="dv-MV" sz="1800" spc="-1" strike="noStrike">
                <a:solidFill>
                  <a:srgbClr val="04617b"/>
                </a:solidFill>
                <a:latin typeface="Cambria"/>
                <a:ea typeface="A_Faruma"/>
              </a:rPr>
              <a:t>) މޮނިޓަރކުރުމާއި އިވެލުއޭޓްކުރުނ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4617b"/>
                </a:solidFill>
                <a:latin typeface="Cambria"/>
                <a:ea typeface="A_Faruma"/>
              </a:rPr>
              <a:t>(2) </a:t>
            </a:r>
            <a:r>
              <a:rPr b="0" lang="dv-MV" sz="1800" spc="-1" strike="noStrike">
                <a:solidFill>
                  <a:srgbClr val="04617b"/>
                </a:solidFill>
                <a:latin typeface="Cambria"/>
                <a:cs typeface="A_Faruma"/>
              </a:rPr>
              <a:t>ބަޖެޓްކުރުނ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ubtitle 6"/>
          <p:cNvSpPr/>
          <p:nvPr/>
        </p:nvSpPr>
        <p:spPr>
          <a:xfrm>
            <a:off x="1905120" y="205740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400" spc="-1" strike="noStrike">
                <a:solidFill>
                  <a:srgbClr val="0c9b74"/>
                </a:solidFill>
                <a:latin typeface="Verdana"/>
                <a:cs typeface="A_Faruma"/>
              </a:rPr>
              <a:t>ސްޓްރެޓީޖިކް އެކްޝަން ޕްލޭން </a:t>
            </a:r>
            <a:r>
              <a:rPr b="0" lang="dv-MV" sz="2400" spc="-1" strike="noStrike">
                <a:solidFill>
                  <a:srgbClr val="0c9b74"/>
                </a:solidFill>
                <a:latin typeface="Verdana"/>
                <a:ea typeface="A_Faruma"/>
              </a:rPr>
              <a:t>2009</a:t>
            </a:r>
            <a:r>
              <a:rPr b="0" lang="dv-MV" sz="2400" spc="-1" strike="noStrike">
                <a:solidFill>
                  <a:srgbClr val="0c9b74"/>
                </a:solidFill>
                <a:latin typeface="Verdana"/>
                <a:ea typeface="A_Faruma"/>
              </a:rPr>
              <a:t>-</a:t>
            </a:r>
            <a:r>
              <a:rPr b="0" lang="dv-MV" sz="2400" spc="-1" strike="noStrike">
                <a:solidFill>
                  <a:srgbClr val="0c9b74"/>
                </a:solidFill>
                <a:latin typeface="Verdana"/>
                <a:ea typeface="A_Faruma"/>
              </a:rPr>
              <a:t>2013</a:t>
            </a:r>
            <a:r>
              <a:rPr b="0" lang="dv-MV" sz="2400" spc="-1" strike="noStrike">
                <a:solidFill>
                  <a:srgbClr val="0c9b74"/>
                </a:solidFill>
                <a:latin typeface="Verdana"/>
                <a:ea typeface="A_Faru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c9b74"/>
                </a:solidFill>
                <a:latin typeface="Verdana"/>
                <a:ea typeface="A_Faruma"/>
              </a:rPr>
              <a:t> </a:t>
            </a:r>
            <a:r>
              <a:rPr b="0" lang="dv-MV" sz="2400" spc="-1" strike="noStrike">
                <a:solidFill>
                  <a:srgbClr val="0c9b74"/>
                </a:solidFill>
                <a:latin typeface="Verdana"/>
                <a:cs typeface="A_Faruma"/>
              </a:rPr>
              <a:t>ޤައުމީ ތަރައްޤީގެ އޮނިގަނޑު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Faruma"/>
              </a:rPr>
              <a:t>(8) </a:t>
            </a:r>
            <a:r>
              <a:rPr b="0" lang="dv-MV" sz="2800" spc="-1" strike="noStrike">
                <a:solidFill>
                  <a:srgbClr val="04617b"/>
                </a:solidFill>
                <a:latin typeface="Faruma"/>
                <a:cs typeface="Faruma"/>
              </a:rPr>
              <a:t>އެމް.އެފް.ޑީ.އާރް</a:t>
            </a: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Faruma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419720" y="16765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r" rtl="1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Faruma"/>
                <a:cs typeface="Faruma"/>
              </a:rPr>
              <a:t>ސަރުކާރު ހިންގުމާ ގުޅޭ ހުރިހާ މަސައްކަތްވެސް ކުރުމަށް މިހާރު ހަމަޖެހިފައިވަނީ </a:t>
            </a:r>
            <a:r>
              <a:rPr b="0" lang="dv-MV" sz="1600" spc="-1" strike="noStrike" u="sng">
                <a:solidFill>
                  <a:srgbClr val="21b2c9"/>
                </a:solidFill>
                <a:uFillTx/>
                <a:latin typeface="Faruma"/>
                <a:cs typeface="Faruma"/>
              </a:rPr>
              <a:t>މެނޭޖިންގ ފޮރ ޑިވެލޮޕްމަންޓް ރިޒަލްޓްސް </a:t>
            </a:r>
            <a:r>
              <a:rPr b="0" lang="dv-MV" sz="1600" spc="-1" strike="noStrike">
                <a:solidFill>
                  <a:srgbClr val="000000"/>
                </a:solidFill>
                <a:latin typeface="Faruma"/>
                <a:ea typeface="Faruma"/>
              </a:rPr>
              <a:t>(އެމް.އެފް.ޑީ.އާރް.)ގެ އަސާސްތަކުގެ ދަށުނ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 algn="r" rtl="1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Faruma"/>
                <a:cs typeface="Faruma"/>
              </a:rPr>
              <a:t>ތަރައްޤީ ހާސިލުކުމަށްޓަކައި ނަތީޖާއަށް އަމާޒުކުރުނ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 algn="r" rtl="1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Faruma"/>
                <a:cs typeface="Faruma"/>
              </a:rPr>
              <a:t>އެމް.އެފް.ޑީ.އާރް.އާއި ގުޅޭ މަސައްކަތް ވިލަރެސްކުރަނީ ޑިޕާޓްމަންޓް އޮފް ނޭޝަނަލް ޕްލޭނިންގއިނ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 algn="r" rtl="1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 algn="r" rtl="1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 algn="r" rtl="1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 algn="r" rtl="1">
              <a:lnSpc>
                <a:spcPct val="170000"/>
              </a:lnSpc>
              <a:spcBef>
                <a:spcPts val="1001"/>
              </a:spcBef>
              <a:spcAft>
                <a:spcPts val="1001"/>
              </a:spcAft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 algn="r" rtl="1">
              <a:lnSpc>
                <a:spcPct val="170000"/>
              </a:lnSpc>
              <a:spcBef>
                <a:spcPts val="1001"/>
              </a:spcBef>
              <a:spcAft>
                <a:spcPts val="1001"/>
              </a:spcAft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7560-3A77-4135-8B2F-637BA0EBBE6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Content Placeholder 4" descr=""/>
          <p:cNvPicPr/>
          <p:nvPr/>
        </p:nvPicPr>
        <p:blipFill>
          <a:blip r:embed="rId1"/>
          <a:stretch/>
        </p:blipFill>
        <p:spPr>
          <a:xfrm>
            <a:off x="165240" y="1517760"/>
            <a:ext cx="38574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2012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 އަހަރަށް ތައްޔާރުކުރަން ހަމަޖެހިފައިވަނީ ޕްރޮގްރާމް އަދި ރިޒަލްޓްސް ބޭސްޑް މެދު ރާސްތާގެ ބަޖެޓެއ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2012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 އަހަރަށް ތައްޔާރުކުރާ ބަޖެޓް މޮނިޓަރކުރުމުނ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lnSpc>
                <a:spcPct val="100000"/>
              </a:lnSpc>
              <a:spcBef>
                <a:spcPts val="1063"/>
              </a:spcBef>
              <a:spcAft>
                <a:spcPts val="1063"/>
              </a:spcAft>
              <a:buClr>
                <a:srgbClr val="10cf9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700" spc="-1" strike="noStrike">
                <a:solidFill>
                  <a:srgbClr val="000000"/>
                </a:solidFill>
                <a:latin typeface="Faruma"/>
                <a:cs typeface="Faruma"/>
              </a:rPr>
              <a:t>ބަޖެޓްކުރެވިފައިވާ އަދަދުން ހާސިލުކުރަން ބޭނުންވާ ލަނޑުދަނޑި (ޓާރގެޓް) ހާސިލުވޭތޯ ބެލޭނެ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lnSpc>
                <a:spcPct val="100000"/>
              </a:lnSpc>
              <a:spcBef>
                <a:spcPts val="1063"/>
              </a:spcBef>
              <a:spcAft>
                <a:spcPts val="1063"/>
              </a:spcAft>
              <a:buClr>
                <a:srgbClr val="10cf9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700" spc="-1" strike="noStrike">
                <a:solidFill>
                  <a:srgbClr val="000000"/>
                </a:solidFill>
                <a:latin typeface="Faruma"/>
                <a:ea typeface="Faruma"/>
              </a:rPr>
              <a:t>2012</a:t>
            </a:r>
            <a:r>
              <a:rPr b="0" lang="dv-MV" sz="1700" spc="-1" strike="noStrike">
                <a:solidFill>
                  <a:srgbClr val="000000"/>
                </a:solidFill>
                <a:latin typeface="Faruma"/>
                <a:ea typeface="Faruma"/>
              </a:rPr>
              <a:t> ވަނަ އަހަރުގެ ނަތީޖާއަށް ބަލާ </a:t>
            </a:r>
            <a:r>
              <a:rPr b="0" lang="dv-MV" sz="1700" spc="-1" strike="noStrike">
                <a:solidFill>
                  <a:srgbClr val="000000"/>
                </a:solidFill>
                <a:latin typeface="Faruma"/>
                <a:ea typeface="Faruma"/>
              </a:rPr>
              <a:t>2013</a:t>
            </a:r>
            <a:r>
              <a:rPr b="0" lang="dv-MV" sz="1700" spc="-1" strike="noStrike">
                <a:solidFill>
                  <a:srgbClr val="000000"/>
                </a:solidFill>
                <a:latin typeface="Faruma"/>
                <a:ea typeface="Faruma"/>
              </a:rPr>
              <a:t> ގައި އިތުރު ނަތީޖާ ނެރުމަށް ބަޖެޓް ކުރަން ބޭނުންވާނެކަން ފާހަގަކުރެވޭނެ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lnSpc>
                <a:spcPct val="100000"/>
              </a:lnSpc>
              <a:spcBef>
                <a:spcPts val="1063"/>
              </a:spcBef>
              <a:spcAft>
                <a:spcPts val="1063"/>
              </a:spcAft>
              <a:buClr>
                <a:srgbClr val="10cf9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700" spc="-1" strike="noStrike">
                <a:solidFill>
                  <a:srgbClr val="000000"/>
                </a:solidFill>
                <a:latin typeface="Faruma"/>
                <a:ea typeface="Faruma"/>
              </a:rPr>
              <a:t>2012</a:t>
            </a:r>
            <a:r>
              <a:rPr b="0" lang="dv-MV" sz="1700" spc="-1" strike="noStrike">
                <a:solidFill>
                  <a:srgbClr val="000000"/>
                </a:solidFill>
                <a:latin typeface="Faruma"/>
                <a:ea typeface="Faruma"/>
              </a:rPr>
              <a:t> ގައި ނަތީޖާ ހާސިލްވެ ފުރިހަމަވެފައިވާ ނަމަ އެހެން ކަމަކަށް ޚަރަދު އަމާޒުކުރުމަށް ފަސޭހަވާނެ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0cf9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Faruma"/>
                <a:cs typeface="Faruma"/>
              </a:rPr>
              <a:t>ލިބިފައިވާ މަދުވަސީލަތްތައް ދެމެހެއްޓެނި ގޮތެއްގައި ބޭނުންކުރުމަށް މަގުފަހުކޮށްދޭނެ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E9FE-B144-4AF2-BB16-5932EE23CDD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609480" y="45720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A_Faruma"/>
              </a:rPr>
              <a:t>(</a:t>
            </a:r>
            <a:r>
              <a:rPr b="0" lang="en-US" sz="2800" spc="-1" strike="noStrike">
                <a:solidFill>
                  <a:srgbClr val="04617b"/>
                </a:solidFill>
                <a:latin typeface="Faruma"/>
                <a:ea typeface="A_Faruma"/>
              </a:rPr>
              <a:t>9</a:t>
            </a: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A_Faruma"/>
              </a:rPr>
              <a:t>) ބަޖެޓް މޮނިޓަރކުރުމުގެ ބޭނުނ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A_Faruma"/>
              </a:rPr>
              <a:t>(7) </a:t>
            </a:r>
            <a:r>
              <a:rPr b="0" lang="dv-MV" sz="2800" spc="-1" strike="noStrike">
                <a:solidFill>
                  <a:srgbClr val="04617b"/>
                </a:solidFill>
                <a:latin typeface="Faruma"/>
                <a:cs typeface="A_Faruma"/>
              </a:rPr>
              <a:t>ޚުލާސާ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37448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31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 ޕްރޮގްރާމް ސްޓިއަރިންގ ކޮމިޓީ އެކުލަވާލުނ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 ޕްރޮގްރާމް ސްޓިއަރިންގ ކޮމިޓީން ޕްރޮގްރާމްގެ މަސައްކަތްތައް (އެކްޓިވިޓީތައް) ކަނޑައެޅައި މަސައްކަތްތައް ހިންގާނެ ފަރާތް ކަނޑައެޅުނ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Faruma"/>
                <a:cs typeface="Faruma"/>
              </a:rPr>
              <a:t>މަސައްކަތް ހިންގާނެ ފަރާތް ކަނޑައެޅުމުން އެފަރާތަކުން މަސައްކަތް އަގުކުރުނ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Faruma"/>
                <a:cs typeface="Faruma"/>
              </a:rPr>
              <a:t>ޕްރޮގްރާމްގެ </a:t>
            </a:r>
            <a:r>
              <a:rPr b="0" lang="en-US" sz="1800" spc="-1" strike="noStrike">
                <a:solidFill>
                  <a:srgbClr val="000000"/>
                </a:solidFill>
                <a:latin typeface="Faruma"/>
                <a:ea typeface="Faruma"/>
              </a:rPr>
              <a:t>RF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cs typeface="Faruma"/>
              </a:rPr>
              <a:t>، </a:t>
            </a:r>
            <a:r>
              <a:rPr b="0" lang="en-US" sz="1800" spc="-1" strike="noStrike">
                <a:solidFill>
                  <a:srgbClr val="000000"/>
                </a:solidFill>
                <a:latin typeface="Faruma"/>
                <a:ea typeface="Faruma"/>
              </a:rPr>
              <a:t>EF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cs typeface="Faruma"/>
              </a:rPr>
              <a:t>، އަދި ޕްރޮގްރާމް ބަޖެޓް ޕްރޮގްރާމް ސްޓިއަރިންގ ކޮމިޓީން ފާސްކޮށް މިނިސްޓްރީ އޮފް ފިނޭންސް/ޕްލޭނިންގް ޑިޕާޓްމަންޓަށް ފޮނުއްވުނ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Faruma"/>
                <a:cs typeface="Faruma"/>
              </a:rPr>
              <a:t>މުހިންމު ސުންގަނޑިތައ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aruma"/>
                <a:ea typeface="Faruma"/>
              </a:rPr>
              <a:t>RF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 ފައިނަލް ކުރުން: 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4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 އޮގަސްޓް 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Faruma"/>
                <a:cs typeface="Faruma"/>
              </a:rPr>
              <a:t>ޕްރޮގްރާމް ބަޖެޓް ނިންމުން: 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31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 އޮގަސްޓް 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aruma"/>
                <a:ea typeface="Faruma"/>
              </a:rPr>
              <a:t>EF</a:t>
            </a:r>
            <a:r>
              <a:rPr b="0" lang="en-US" sz="1800" spc="-1" strike="noStrike">
                <a:solidFill>
                  <a:srgbClr val="000000"/>
                </a:solidFill>
                <a:latin typeface="Faruma"/>
                <a:ea typeface="Faruma"/>
              </a:rPr>
              <a:t> 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 ފައިނަލްކުރުން: 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15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 ސެޕްޓެމްބަރ </a:t>
            </a: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Faruma"/>
                <a:ea typeface="Faru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133D-EC99-4170-9CDA-A9EF6063109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v-MV" sz="3000" spc="-1" strike="noStrike">
                <a:solidFill>
                  <a:srgbClr val="04617b"/>
                </a:solidFill>
                <a:latin typeface="Faruma"/>
                <a:cs typeface="Faruma"/>
              </a:rPr>
              <a:t>ޝުކުރިއްޔާ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133D-441B-4A60-B6B0-BCA8F757CB9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cs typeface="A_Faruma"/>
              </a:rPr>
              <a:t>އެޖެންޑާ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891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1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) ބެކްގްރައުންޑ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2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) މުހިންމު ސުންގަނޑި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3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) ޕްރޮގްރާމްގެ ޗެއަރޕަރސަނ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4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) ޕްރޮގްރާމްގެ ސްޓިއަރިންގ ކޮމިޓ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5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) ޕްރޮގްރާމްގެ ސްޓިއަރިންގ ކޮމިޓީގެ މަސައްކަތްތައ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6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) ރިޒަލްޓްސް ފްރޭމްވަރކް </a:t>
            </a:r>
            <a:r>
              <a:rPr b="0" lang="en-US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Faruma"/>
                <a:ea typeface="Faruma"/>
              </a:rPr>
              <a:t>RF</a:t>
            </a:r>
            <a:r>
              <a:rPr b="0" lang="en-US" sz="2000" spc="-1" strike="noStrike">
                <a:solidFill>
                  <a:srgbClr val="000000"/>
                </a:solidFill>
                <a:latin typeface="Faruma"/>
                <a:ea typeface="Faru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7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) އިވެލުއޭޝަން ފްރޭމްވަރކް </a:t>
            </a:r>
            <a:r>
              <a:rPr b="0" lang="en-US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Faruma"/>
                <a:ea typeface="Faruma"/>
              </a:rPr>
              <a:t>EF</a:t>
            </a:r>
            <a:r>
              <a:rPr b="0" lang="en-US" sz="2000" spc="-1" strike="noStrike">
                <a:solidFill>
                  <a:srgbClr val="000000"/>
                </a:solidFill>
                <a:latin typeface="Faruma"/>
                <a:ea typeface="Faru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Faruma"/>
                <a:ea typeface="Faruma"/>
              </a:rPr>
              <a:t>8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) އެމް.އެފް.ޑީ.އާރ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6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) ބަޖެޓް މޮނިޓަރކުރުމުގެ ބޭނުނ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(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7</a:t>
            </a:r>
            <a:r>
              <a:rPr b="0" lang="dv-MV" sz="2000" spc="-1" strike="noStrike">
                <a:solidFill>
                  <a:srgbClr val="000000"/>
                </a:solidFill>
                <a:latin typeface="Faruma"/>
                <a:ea typeface="Faruma"/>
              </a:rPr>
              <a:t>) ޚުލާސާ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 algn="r" rtl="1">
              <a:lnSpc>
                <a:spcPct val="10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712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2097-A332-4183-9EAA-866C2B31BCC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(1) </a:t>
            </a: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cs typeface="A_Faruma"/>
              </a:rPr>
              <a:t>ބެކްގްރައުންޑް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09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ގައި އެސް.އޭ.ޕީ.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09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-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13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ތައްޔާރުކުރެވުނު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010</a:t>
            </a: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ގައި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11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ގެ ބަޖެޓް އެސް.އޭ.ޕީ.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09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-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13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އާއި އެލައިންކުރެވުނު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011</a:t>
            </a: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ގައި އެސް.އޭ.ޕީ.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09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-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13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އަށް މޮނިޓަރިންގ އެންޑް އިވެލުއޭޝަން (އެމް.އެންޑް.އީ.) ފްރޭމްވަރކެއް ތައްޔާރުކުރުމުގެ މަސައްކަތް ފެށުނު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އެމް.އެންޑް.އީ. ފްރޭމްވަރކް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             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ރިޒަލްޓްސް ފްރޭމްވަރކް (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RF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) + އެވެލުއޭޝަން ފްރޭމްވަރކް (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EF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ފެބް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11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-މެއި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11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ޑީ.ޢެން.ޕީ ގެ ފަރާތުން ޔޫ.އެން.ގެ ފަންނީ އެހީގައި ކަމާއިބެހޭ މާހިރެއްގެ އިރުޝާދުގެ ދަށުން ސަރުކާރުގެ ކަމާއިބެހޭ ވުޒާރާތަކާއި/އޮފީސްތަކާއި ގުޅިގެން ކުރެވުނު މަސައްކަތެއ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7</a:t>
            </a: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މެއި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11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އާއި ހަމައަށް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            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31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ދާއިރާގެ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RF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 ގެ ދެވަނަ ދެލިކޮޕީ ނިމިފައި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EF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ގެ ފޯމެޓް ހުރިހާ ލީޑް އޭޖެންސީއާއި ހިއްސާކުރެވިފައި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8</a:t>
            </a: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</a:t>
            </a: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9</a:t>
            </a: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</a:t>
            </a: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2</a:t>
            </a:r>
            <a:r>
              <a:rPr b="0" lang="ar-SA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މެއި 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2011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	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- އެމް.އެންޑް.އީ. ވެލިޑޭޝަން ވަރކްޝޮޕް ބޭއްވުނު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80F6-72B6-49EA-A8C4-8CEAB0F7A6C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Diagram 8" descr=""/>
          <p:cNvPicPr/>
          <p:nvPr/>
        </p:nvPicPr>
        <p:blipFill>
          <a:blip r:embed="rId1"/>
          <a:stretch/>
        </p:blipFill>
        <p:spPr>
          <a:xfrm>
            <a:off x="500040" y="195120"/>
            <a:ext cx="1957320" cy="1871640"/>
          </a:xfrm>
          <a:prstGeom prst="rect">
            <a:avLst/>
          </a:prstGeom>
          <a:ln w="0">
            <a:noFill/>
          </a:ln>
        </p:spPr>
      </p:pic>
      <p:cxnSp>
        <p:nvCxnSpPr>
          <p:cNvPr id="370" name="Straight Arrow Connector 7"/>
          <p:cNvCxnSpPr/>
          <p:nvPr/>
        </p:nvCxnSpPr>
        <p:spPr>
          <a:xfrm flipH="1" flipV="1">
            <a:off x="5409720" y="3657240"/>
            <a:ext cx="457920" cy="2160"/>
          </a:xfrm>
          <a:prstGeom prst="straightConnector1">
            <a:avLst/>
          </a:prstGeom>
          <a:ln w="12600">
            <a:solidFill>
              <a:srgbClr val="00da96"/>
            </a:solidFill>
            <a:miter/>
            <a:tailEnd len="med" type="arrow" w="med"/>
          </a:ln>
        </p:spPr>
      </p:cxnSp>
      <p:cxnSp>
        <p:nvCxnSpPr>
          <p:cNvPr id="371" name="Straight Arrow Connector 9"/>
          <p:cNvCxnSpPr/>
          <p:nvPr/>
        </p:nvCxnSpPr>
        <p:spPr>
          <a:xfrm flipH="1" flipV="1">
            <a:off x="5333760" y="5028840"/>
            <a:ext cx="457920" cy="2160"/>
          </a:xfrm>
          <a:prstGeom prst="straightConnector1">
            <a:avLst/>
          </a:prstGeom>
          <a:ln w="12600">
            <a:solidFill>
              <a:srgbClr val="00da96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 flipV="1">
            <a:off x="5333760" y="5333760"/>
            <a:ext cx="457920" cy="2160"/>
          </a:xfrm>
          <a:prstGeom prst="straightConnector1">
            <a:avLst/>
          </a:prstGeom>
          <a:ln w="12600">
            <a:solidFill>
              <a:srgbClr val="00da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(</a:t>
            </a: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2</a:t>
            </a: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) މުހިންމު ސުންގަނޑި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388B-86DA-49CD-B152-6751B85F634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5" descr=""/>
          <p:cNvPicPr/>
          <p:nvPr/>
        </p:nvPicPr>
        <p:blipFill>
          <a:blip r:embed="rId1"/>
          <a:stretch/>
        </p:blipFill>
        <p:spPr>
          <a:xfrm>
            <a:off x="995400" y="1828800"/>
            <a:ext cx="68612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(</a:t>
            </a: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3</a:t>
            </a: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) ޕްރޮގްރާމް ޗެއަރޕާރސަން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371240"/>
            <a:ext cx="7772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 algn="r" rtl="1">
              <a:spcBef>
                <a:spcPts val="601"/>
              </a:spcBef>
              <a:buClr>
                <a:srgbClr val="10cf9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10cf9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މައިގަނޑު މަސްއޫލިއްޔަތ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45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ް ޑިރެކްޓަރ ކަނޑައެޅުނ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45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ްގެ ސްޓިއަރިންގ ކޮމިޓީގެ ބައްދަލުވުންތައް ބޭއްވުނ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45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ް ސްޓިއަރިންގ ކޮމިޓީގައި މަޝްވަރާކޮށް މެންބަރުންގެ ލިސްޓް ފާސްކުރެއްވުނ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45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ް ސްޓިއަރިންގ ކޮމިޓީއިން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</a:t>
            </a:r>
            <a:r>
              <a:rPr b="0" lang="dv-MV" sz="18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ރިޒަލްޓްސް ފްރޭމްވަރކް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)</a:t>
            </a:r>
            <a:r>
              <a:rPr b="0" lang="dv-MV" sz="18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ރަސްމީގޮތުން ފޮނުއްވުނ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45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8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ް ސްޓިއަރިންގ ކޮމިޓީއިން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</a:t>
            </a:r>
            <a:r>
              <a:rPr b="0" lang="dv-MV" sz="18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ފާސްކުރައްވާ ޕްރޮގްރާމް ބަޖެޓް  ރަސްމީގޮތުން ފޮނުއްވުނ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BFBB-DAA1-4777-8E57-5E018C62C7D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(4) </a:t>
            </a: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cs typeface="A_Faruma"/>
              </a:rPr>
              <a:t>ޕްރޮގްރާމް ސްޓިއަރިންގ ކޮމިޓީ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63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މިކޮމިޓީގެ ދާއިމީ މެންބަރުންގެ ގޮތުގައި ހިމެނޭނީ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400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ަށް ރައީސުލްޖުމްހޫރިއްޔާ ކަނޑައަޅުއްވާފައިވާ ޕްރޮގްރާމް ޗެއަރމަނ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400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ް ޗެއަރމަން ކަނޑައަޅުއްވާފައިވާ ޕްރޮގްރާމް ޑިރެކްޓަރ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400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ްގެ ލީޑް އޭޖެންސީގެ ޕޮލިސީ ލެވެލްގެ ބޭފުޅުނ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400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ްގެ ލީޑް އޭޖެންސީގެ ޓެކްނިކަލް ލެވެލްގެ ބޭފުޅުނ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400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ްގެ ސްޓޭކްހޯލްޑަރ އޭޖެންސީގެ ޕޮލިސީ ލެވެލްގެ ބޭފުޅުނ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400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ޕްރޮގްރާމްގެ ސްޓޭކްހޯލްޑަރ އޭޖެންސީގެ ޓެކްނިކަލް ލެވެލްގެ ބޭފުޅުނ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މުހިއްމު ނުކުތާތައ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400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މިކޮމިޓީގެ މެންބަރުންގެ ލިސްޓް ކޮމިޓީގެ ފުރަތަމަ ބައްދަލުވުމުގައި ފާސްކުރެއްވުނ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400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6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ކޮމިޓީގައި ހިމެނުމަށް ހުށައަޅާ ލިސްޓެއް އެކުލަވާލެވިފައިވޭ. މީގައި ބަލާފައިވަނީ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349"/>
              </a:spcBef>
              <a:buClr>
                <a:srgbClr val="10cf9b"/>
              </a:buClr>
              <a:buSzPct val="80000"/>
              <a:buFont typeface="Century Schoolbook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އެސް.އޭ.ޕީ.ގައި ފާހަގަކޮށްފައިވާ ސްޓޭކްހޯލްޑަރުނ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349"/>
              </a:spcBef>
              <a:buClr>
                <a:srgbClr val="10cf9b"/>
              </a:buClr>
              <a:buSzPct val="80000"/>
              <a:buFont typeface="Century Schoolbook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RF</a:t>
            </a: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ea typeface="A_Faruma"/>
              </a:rPr>
              <a:t> ގައި ފާހަގަކޮށްފައިވާ އޭޖެންސީތައ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349"/>
              </a:spcBef>
              <a:buClr>
                <a:srgbClr val="10cf9b"/>
              </a:buClr>
              <a:buSzPct val="80000"/>
              <a:buFont typeface="Century Schoolbook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ވެލިޑޭޝަން ވަރކްޝޮޕްގައި ކޮމިޓީތަކުގައި ހިމެނުމަށް  ހުށައެޅުނު އޭޖެންސީތައ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349"/>
              </a:spcBef>
              <a:buClr>
                <a:srgbClr val="10cf9b"/>
              </a:buClr>
              <a:buSzPct val="80000"/>
              <a:buFont typeface="Century Schoolbook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1400" spc="-1" strike="noStrike">
                <a:solidFill>
                  <a:srgbClr val="000000"/>
                </a:solidFill>
                <a:latin typeface="Century Schoolbook"/>
                <a:cs typeface="A_Faruma"/>
              </a:rPr>
              <a:t>ބަޖެޓަށް ބަރޯސާވަ ހުރިހާ މުއައްސަސާތައް ޕްރޮގްރާތަކުގައި ހިމެނުމަށްޓަކައި ޑީ.އެން.ޕީ.އިން ހުށައަޅާގޮތ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98C2-0BEE-4A60-826E-0E1B9B589D7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 (</a:t>
            </a: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5</a:t>
            </a:r>
            <a:r>
              <a:rPr b="0" lang="dv-MV" sz="3000" spc="-1" strike="noStrike">
                <a:solidFill>
                  <a:srgbClr val="04617b"/>
                </a:solidFill>
                <a:latin typeface="Century Schoolbook"/>
                <a:ea typeface="A_Faruma"/>
              </a:rPr>
              <a:t>) ޕްރޮގްރާމް ސްޓިއަރިންގ ކޮމިޓީގެ މަސައްކަތްތައް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2577-EADD-4857-B235-D633A60A01C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28600" y="1521000"/>
            <a:ext cx="762012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A_Faruma"/>
              </a:rPr>
              <a:t>(</a:t>
            </a: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A_Faruma"/>
              </a:rPr>
              <a:t>6</a:t>
            </a: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A_Faruma"/>
              </a:rPr>
              <a:t>) ރިޒަލްޓްސް ފްރޭމްވަރކް </a:t>
            </a:r>
            <a:r>
              <a:rPr b="0" lang="en-US" sz="2800" spc="-1" strike="noStrike">
                <a:solidFill>
                  <a:srgbClr val="04617b"/>
                </a:solidFill>
                <a:latin typeface="Faruma"/>
                <a:ea typeface="A_Faruma"/>
              </a:rPr>
              <a:t>(</a:t>
            </a:r>
            <a:r>
              <a:rPr b="0" lang="en-US" sz="2800" spc="-1" strike="noStrike">
                <a:solidFill>
                  <a:srgbClr val="04617b"/>
                </a:solidFill>
                <a:latin typeface="Faruma"/>
                <a:ea typeface="A_Faruma"/>
              </a:rPr>
              <a:t>RF</a:t>
            </a:r>
            <a:r>
              <a:rPr b="0" lang="en-US" sz="2800" spc="-1" strike="noStrike">
                <a:solidFill>
                  <a:srgbClr val="04617b"/>
                </a:solidFill>
                <a:latin typeface="Faruma"/>
                <a:ea typeface="A_Faruma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850F-FA28-441D-9B05-E2416A27A96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51032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A_Faruma"/>
              </a:rPr>
              <a:t>(</a:t>
            </a: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A_Faruma"/>
              </a:rPr>
              <a:t>7</a:t>
            </a:r>
            <a:r>
              <a:rPr b="0" lang="dv-MV" sz="2800" spc="-1" strike="noStrike">
                <a:solidFill>
                  <a:srgbClr val="04617b"/>
                </a:solidFill>
                <a:latin typeface="Faruma"/>
                <a:ea typeface="A_Faruma"/>
              </a:rPr>
              <a:t>) އިވެލުއޭޝަން ފްރޭމްވަރކް </a:t>
            </a:r>
            <a:r>
              <a:rPr b="0" lang="en-US" sz="2800" spc="-1" strike="noStrike">
                <a:solidFill>
                  <a:srgbClr val="04617b"/>
                </a:solidFill>
                <a:latin typeface="Faruma"/>
                <a:ea typeface="A_Faruma"/>
              </a:rPr>
              <a:t>(</a:t>
            </a:r>
            <a:r>
              <a:rPr b="0" lang="en-US" sz="2800" spc="-1" strike="noStrike">
                <a:solidFill>
                  <a:srgbClr val="04617b"/>
                </a:solidFill>
                <a:latin typeface="Faruma"/>
                <a:ea typeface="A_Faruma"/>
              </a:rPr>
              <a:t>EF</a:t>
            </a:r>
            <a:r>
              <a:rPr b="0" lang="en-US" sz="2800" spc="-1" strike="noStrike">
                <a:solidFill>
                  <a:srgbClr val="04617b"/>
                </a:solidFill>
                <a:latin typeface="Faruma"/>
                <a:ea typeface="A_Faruma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2122-C820-4CD7-B4CB-266BEB876BC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52280" y="1187280"/>
            <a:ext cx="8143920" cy="559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16:11:57Z</dcterms:created>
  <dc:creator>Ahmed</dc:creator>
  <dc:description/>
  <dc:language>en-US</dc:language>
  <cp:lastModifiedBy>Fazeela</cp:lastModifiedBy>
  <dcterms:modified xsi:type="dcterms:W3CDTF">2011-07-24T12:16:44Z</dcterms:modified>
  <cp:revision>234</cp:revision>
  <dc:subject/>
  <dc:title>REGIONAL DEVELOPMENT</dc:title>
</cp:coreProperties>
</file>