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7520" y="741240"/>
            <a:ext cx="256212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5C23-417C-410E-8592-31F90B143829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17880" y="741240"/>
            <a:ext cx="2562120" cy="3702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4963-C7C5-4B02-A02A-EADE9C8A1CFA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10B-3444-4C14-9CD9-47837E1E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2F6-06B3-415F-95D7-6591CB8B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D4C-66F3-4728-A7C4-56F079C0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58E-B4F1-424C-BD79-E499FB4C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D42-AB87-4D92-A001-6D65BDE4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DD7-A14C-4E34-8386-03B3B62C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BA7-A899-4D71-BAFE-8D3C59E4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D06-21F3-4FAD-946F-0D586EA8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FF6-4915-4734-B576-02347DD0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DF8-F0C9-4B92-AA9A-CBCF0BC3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52F-5158-4A3A-9B2E-3EC0FD4C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C9B-EB0C-40AA-8241-B7062C5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8753-52B4-41D9-AF98-E23CF91581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1"/>
          <p:cNvSpPr/>
          <p:nvPr/>
        </p:nvSpPr>
        <p:spPr>
          <a:xfrm>
            <a:off x="879480" y="7924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MT Black"/>
              </a:rPr>
              <a:t>F E B R U A R Y   -   2 0 1 8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879480" y="1282680"/>
            <a:ext cx="55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ULTANCY SERVICES FOR DESIGN AND SUPERVISION OF RAIN WATER HARVESTING IN 10 ISLANDS (PACKAGE – II),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0" name="Picture 65" descr="stc"/>
          <p:cNvPicPr/>
          <p:nvPr/>
        </p:nvPicPr>
        <p:blipFill>
          <a:blip r:embed="rId1"/>
          <a:stretch/>
        </p:blipFill>
        <p:spPr>
          <a:xfrm>
            <a:off x="268200" y="8788320"/>
            <a:ext cx="52560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4"/>
          <p:cNvSpPr/>
          <p:nvPr/>
        </p:nvSpPr>
        <p:spPr>
          <a:xfrm>
            <a:off x="1049400" y="8837640"/>
            <a:ext cx="363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2d050"/>
                </a:solidFill>
                <a:latin typeface="Tahoma"/>
                <a:ea typeface="Tahoma"/>
              </a:rPr>
              <a:t>SHAH TECHNICAL CONSULTANTS PVT. LTD.,  INDIA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Rectangle 64"/>
          <p:cNvSpPr/>
          <p:nvPr/>
        </p:nvSpPr>
        <p:spPr>
          <a:xfrm>
            <a:off x="1049400" y="916164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Tahoma"/>
              </a:rPr>
              <a:t>IN ASSOCIATION  WITH</a:t>
            </a:r>
            <a:endParaRPr b="0" lang="en-US" sz="9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600" y="77760"/>
            <a:ext cx="76032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793800" y="66600"/>
            <a:ext cx="6064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Black"/>
              </a:rPr>
              <a:t>MINISTRY OF ENVIRONMENT AND ENERGY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MALE: REPUBLIC OF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" name="Picture 20" descr="DTM1"/>
          <p:cNvPicPr/>
          <p:nvPr/>
        </p:nvPicPr>
        <p:blipFill>
          <a:blip r:embed="rId3"/>
          <a:stretch/>
        </p:blipFill>
        <p:spPr>
          <a:xfrm>
            <a:off x="260280" y="9340920"/>
            <a:ext cx="48096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6"/>
          <p:cNvSpPr/>
          <p:nvPr/>
        </p:nvSpPr>
        <p:spPr>
          <a:xfrm>
            <a:off x="965160" y="9437760"/>
            <a:ext cx="5477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000" spc="-1" strike="noStrike">
                <a:solidFill>
                  <a:srgbClr val="dedefa"/>
                </a:solidFill>
                <a:latin typeface="Tahoma"/>
              </a:rPr>
              <a:t>DEVELOPMENT TECHNOLOGIES MALDIVES, MALDIVES 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3657600" y="4332240"/>
            <a:ext cx="277020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1103400" y="4359240"/>
            <a:ext cx="2554200" cy="188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1103400" y="2281320"/>
            <a:ext cx="255888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\\Server\2017 projects\Maldives - 4 water supply documents\trs\co camera pics\105_2012\IMG_0051.JPG"/>
          <p:cNvPicPr/>
          <p:nvPr/>
        </p:nvPicPr>
        <p:blipFill>
          <a:blip r:embed="rId7"/>
          <a:stretch/>
        </p:blipFill>
        <p:spPr>
          <a:xfrm>
            <a:off x="3672000" y="22813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8"/>
          <p:cNvSpPr/>
          <p:nvPr/>
        </p:nvSpPr>
        <p:spPr>
          <a:xfrm>
            <a:off x="0" y="648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V O L U M E  II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0" y="7219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E M P L O Y E R’S   R E Q U I R E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5:53:56Z</dcterms:created>
  <dc:creator>user</dc:creator>
  <dc:description/>
  <dc:language>en-US</dc:language>
  <cp:lastModifiedBy>stc123</cp:lastModifiedBy>
  <cp:lastPrinted>2016-04-26T05:25:12Z</cp:lastPrinted>
  <dcterms:modified xsi:type="dcterms:W3CDTF">2018-03-07T06:18:59Z</dcterms:modified>
  <cp:revision>258</cp:revision>
  <dc:subject/>
  <dc:title>Slide 1</dc:title>
</cp:coreProperties>
</file>