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CB4-0B10-45AE-9BD7-ABEAA1060029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5AE-500F-4D7A-8C15-5A6FF9FFC63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158-8C5D-492F-8B76-3EADF12C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DB-ABA8-41AE-ABC8-22DD3A1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3B6-C7CF-4A70-8EF5-3389AC7C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4EC-D130-4B2A-AB03-074D69C5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3AA-6702-44FE-826B-CED2E42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CD2-F929-4A7D-96E1-0416926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A74-FEE0-4176-A321-5C8BD40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73F-60A0-41D8-8890-24173410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DB6-D011-429C-B694-30552849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44D-C9C0-40F0-8FD8-073D623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E46-2B86-4FB6-BF9E-59B4473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EAE-AEF2-45A6-862D-C6DCA59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FF5-A36A-4A44-AA64-E9C1B22A3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10 ISLANDS (PACKAGE – II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7219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07T06:18:59Z</dcterms:modified>
  <cp:revision>258</cp:revision>
  <dc:subject/>
  <dc:title>Slide 1</dc:title>
</cp:coreProperties>
</file>