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6858000" cy="9907588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0066"/>
                </a:solidFill>
                <a:latin typeface="Arial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66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17520" y="741240"/>
            <a:ext cx="2562120" cy="370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87840" rIns="8784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b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b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0066"/>
                </a:solidFill>
                <a:latin typeface="Arial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CBE2D-EE34-42C8-A088-3487F9CB8510}" type="slidenum">
              <a:rPr b="0" lang="en-US" sz="1200" spc="-1" strike="noStrike">
                <a:solidFill>
                  <a:srgbClr val="ff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2117880" y="741240"/>
            <a:ext cx="2562120" cy="370224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2E2EE-4370-40D5-9E79-45EFAD0943FF}" type="slidenum">
              <a:rPr b="0" lang="en-US" sz="1200" spc="-1" strike="noStrike">
                <a:solidFill>
                  <a:srgbClr val="ff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4FAB-4F3F-40E8-87DF-B8821ABE2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FB3A-11F1-4100-84A0-FE18307E1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BD93-DE81-480B-9A8A-5C4EF3536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2DC8-21DF-498E-8680-4AEEBC8B4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6120-1F86-46D2-8DB1-06F9F4468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4E53-FC83-4838-B908-47E45ABC6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2C71-4BAC-4232-8B02-32D93184D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C909-F599-4FB6-A620-34AB5125B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AEFA-C5B5-4DFA-8736-4365FF318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8458-7256-4F13-9DAD-B243861E8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F54C-2E41-41B2-84FD-31486A657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883F-0679-43C8-95BC-F9784DE0C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843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0160"/>
            <a:ext cx="21715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2CC99-4EA5-4F40-BA98-E0CAE8B5531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8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151"/>
          <p:cNvSpPr/>
          <p:nvPr/>
        </p:nvSpPr>
        <p:spPr>
          <a:xfrm>
            <a:off x="879480" y="7924680"/>
            <a:ext cx="556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doni MT Black"/>
              </a:rPr>
              <a:t>F E B R U A R Y   -   2 0 1 8</a:t>
            </a:r>
            <a:endParaRPr b="0" lang="en-US" sz="18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49" name="Text Box 80"/>
          <p:cNvSpPr/>
          <p:nvPr/>
        </p:nvSpPr>
        <p:spPr>
          <a:xfrm>
            <a:off x="879480" y="1282680"/>
            <a:ext cx="556272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160" bIns="3816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CONSULTANCY SERVICES FOR DESIGN AND SUPERVISION OF RAIN WATER HARVESTING IN 9 ISLANDS (PACKAGE – IV), MALDIVES</a:t>
            </a:r>
            <a:endParaRPr b="0" lang="en-US" sz="1600" spc="-1" strike="noStrike">
              <a:solidFill>
                <a:srgbClr val="ff0066"/>
              </a:solidFill>
              <a:latin typeface="Arial"/>
            </a:endParaRPr>
          </a:p>
        </p:txBody>
      </p:sp>
      <p:pic>
        <p:nvPicPr>
          <p:cNvPr id="50" name="Picture 65" descr="stc"/>
          <p:cNvPicPr/>
          <p:nvPr/>
        </p:nvPicPr>
        <p:blipFill>
          <a:blip r:embed="rId1"/>
          <a:stretch/>
        </p:blipFill>
        <p:spPr>
          <a:xfrm>
            <a:off x="268200" y="8788320"/>
            <a:ext cx="525600" cy="25236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64"/>
          <p:cNvSpPr/>
          <p:nvPr/>
        </p:nvSpPr>
        <p:spPr>
          <a:xfrm>
            <a:off x="1049400" y="8837640"/>
            <a:ext cx="3639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92d050"/>
                </a:solidFill>
                <a:latin typeface="Tahoma"/>
                <a:ea typeface="Tahoma"/>
              </a:rPr>
              <a:t>SHAH TECHNICAL CONSULTANTS PVT. LTD.,  INDIA</a:t>
            </a:r>
            <a:endParaRPr b="0" lang="en-US" sz="1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52" name="Rectangle 64"/>
          <p:cNvSpPr/>
          <p:nvPr/>
        </p:nvSpPr>
        <p:spPr>
          <a:xfrm>
            <a:off x="1049400" y="9161640"/>
            <a:ext cx="1998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000"/>
                </a:solidFill>
                <a:latin typeface="Tahoma"/>
              </a:rPr>
              <a:t>IN ASSOCIATION  WITH</a:t>
            </a:r>
            <a:endParaRPr b="0" lang="en-US" sz="900" spc="-1" strike="noStrike">
              <a:solidFill>
                <a:srgbClr val="ff0066"/>
              </a:solidFill>
              <a:latin typeface="Arial"/>
            </a:endParaRPr>
          </a:p>
        </p:txBody>
      </p:sp>
      <p:pic>
        <p:nvPicPr>
          <p:cNvPr id="53" name="Picture 5" descr=""/>
          <p:cNvPicPr/>
          <p:nvPr/>
        </p:nvPicPr>
        <p:blipFill>
          <a:blip r:embed="rId2"/>
          <a:stretch/>
        </p:blipFill>
        <p:spPr>
          <a:xfrm>
            <a:off x="66600" y="77760"/>
            <a:ext cx="760320" cy="798480"/>
          </a:xfrm>
          <a:prstGeom prst="rect">
            <a:avLst/>
          </a:prstGeom>
          <a:ln w="0">
            <a:noFill/>
          </a:ln>
        </p:spPr>
      </p:pic>
      <p:sp>
        <p:nvSpPr>
          <p:cNvPr id="54" name="Text Box 14"/>
          <p:cNvSpPr/>
          <p:nvPr/>
        </p:nvSpPr>
        <p:spPr>
          <a:xfrm>
            <a:off x="793800" y="66600"/>
            <a:ext cx="6064200" cy="75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 Black"/>
              </a:rPr>
              <a:t>MINISTRY OF ENVIRONMENT AND ENERGY</a:t>
            </a:r>
            <a:r>
              <a:rPr b="1" lang="en-US" sz="18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ff00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Black"/>
              </a:rPr>
              <a:t>MALE: REPUBLIC OF MALDIVES</a:t>
            </a:r>
            <a:endParaRPr b="0" lang="en-US" sz="1600" spc="-1" strike="noStrike">
              <a:solidFill>
                <a:srgbClr val="ff0066"/>
              </a:solidFill>
              <a:latin typeface="Arial"/>
            </a:endParaRPr>
          </a:p>
        </p:txBody>
      </p:sp>
      <p:pic>
        <p:nvPicPr>
          <p:cNvPr id="55" name="Picture 20" descr="DTM1"/>
          <p:cNvPicPr/>
          <p:nvPr/>
        </p:nvPicPr>
        <p:blipFill>
          <a:blip r:embed="rId3"/>
          <a:stretch/>
        </p:blipFill>
        <p:spPr>
          <a:xfrm>
            <a:off x="260280" y="9340920"/>
            <a:ext cx="480960" cy="39060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96"/>
          <p:cNvSpPr/>
          <p:nvPr/>
        </p:nvSpPr>
        <p:spPr>
          <a:xfrm>
            <a:off x="965160" y="9437760"/>
            <a:ext cx="5477040" cy="2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160" rIns="83160" tIns="41400" bIns="414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fr-FR" sz="1000" spc="-1" strike="noStrike">
                <a:solidFill>
                  <a:srgbClr val="dedefa"/>
                </a:solidFill>
                <a:latin typeface="Tahoma"/>
              </a:rPr>
              <a:t>DEVELOPMENT TECHNOLOGIES MALDIVES, MALDIVES </a:t>
            </a:r>
            <a:endParaRPr b="0" lang="en-US" sz="1000" spc="-1" strike="noStrike">
              <a:solidFill>
                <a:srgbClr val="ff0066"/>
              </a:solidFill>
              <a:latin typeface="Arial"/>
            </a:endParaRPr>
          </a:p>
        </p:txBody>
      </p:sp>
      <p:pic>
        <p:nvPicPr>
          <p:cNvPr id="57" name="Picture 16" descr=""/>
          <p:cNvPicPr/>
          <p:nvPr/>
        </p:nvPicPr>
        <p:blipFill>
          <a:blip r:embed="rId4"/>
          <a:stretch/>
        </p:blipFill>
        <p:spPr>
          <a:xfrm>
            <a:off x="3657600" y="4332240"/>
            <a:ext cx="2770200" cy="19162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7" descr=""/>
          <p:cNvPicPr/>
          <p:nvPr/>
        </p:nvPicPr>
        <p:blipFill>
          <a:blip r:embed="rId5"/>
          <a:stretch/>
        </p:blipFill>
        <p:spPr>
          <a:xfrm>
            <a:off x="1103400" y="4359240"/>
            <a:ext cx="2554200" cy="1889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6" descr=""/>
          <p:cNvPicPr/>
          <p:nvPr/>
        </p:nvPicPr>
        <p:blipFill>
          <a:blip r:embed="rId6"/>
          <a:stretch/>
        </p:blipFill>
        <p:spPr>
          <a:xfrm>
            <a:off x="1103400" y="2281320"/>
            <a:ext cx="2558880" cy="2077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6" descr="\\Server\2017 projects\Maldives - 4 water supply documents\trs\co camera pics\105_2012\IMG_0051.JPG"/>
          <p:cNvPicPr/>
          <p:nvPr/>
        </p:nvPicPr>
        <p:blipFill>
          <a:blip r:embed="rId7"/>
          <a:stretch/>
        </p:blipFill>
        <p:spPr>
          <a:xfrm>
            <a:off x="3672000" y="2281320"/>
            <a:ext cx="2770200" cy="2077920"/>
          </a:xfrm>
          <a:prstGeom prst="rect">
            <a:avLst/>
          </a:prstGeom>
          <a:ln w="0">
            <a:noFill/>
          </a:ln>
        </p:spPr>
      </p:pic>
      <p:sp>
        <p:nvSpPr>
          <p:cNvPr id="61" name="Text Box 38"/>
          <p:cNvSpPr/>
          <p:nvPr/>
        </p:nvSpPr>
        <p:spPr>
          <a:xfrm>
            <a:off x="0" y="6481800"/>
            <a:ext cx="685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336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a3a3c2"/>
                </a:solidFill>
                <a:latin typeface="Arial"/>
              </a:rPr>
              <a:t>V O L U M E  I</a:t>
            </a:r>
            <a:endParaRPr b="0" lang="en-US" sz="2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62" name="Text Box 38"/>
          <p:cNvSpPr/>
          <p:nvPr/>
        </p:nvSpPr>
        <p:spPr>
          <a:xfrm>
            <a:off x="0" y="6934320"/>
            <a:ext cx="685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336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a3a3c2"/>
                </a:solidFill>
                <a:latin typeface="Arial"/>
              </a:rPr>
              <a:t>B I D D I N G   D O C U M E N T</a:t>
            </a:r>
            <a:endParaRPr b="0" lang="en-US" sz="2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63" name="Text Box 38"/>
          <p:cNvSpPr/>
          <p:nvPr/>
        </p:nvSpPr>
        <p:spPr>
          <a:xfrm>
            <a:off x="0" y="7467480"/>
            <a:ext cx="685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336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a3a3c2"/>
                </a:solidFill>
                <a:latin typeface="Arial"/>
              </a:rPr>
              <a:t>E M P L O Y E R’S   R E Q U I R E M E N T</a:t>
            </a:r>
            <a:endParaRPr b="0" lang="en-US" sz="2000" spc="-1" strike="noStrike">
              <a:solidFill>
                <a:srgbClr val="ff006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3T05:53:56Z</dcterms:created>
  <dc:creator>user</dc:creator>
  <dc:description/>
  <dc:language>en-US</dc:language>
  <cp:lastModifiedBy>stc123</cp:lastModifiedBy>
  <cp:lastPrinted>2016-04-26T05:25:12Z</cp:lastPrinted>
  <dcterms:modified xsi:type="dcterms:W3CDTF">2018-03-12T06:56:18Z</dcterms:modified>
  <cp:revision>259</cp:revision>
  <dc:subject/>
  <dc:title>Slide 1</dc:title>
</cp:coreProperties>
</file>