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0066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17520" y="741240"/>
            <a:ext cx="256212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0066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9106-50F4-4B03-947A-BBA9BF455349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2117880" y="741240"/>
            <a:ext cx="2562120" cy="37022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84F2-522E-4C29-A9C9-1C6CC303F383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DDB3-6A5E-41B2-80F1-D87CEC01B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D075-B670-4CE5-9D9D-0C3A3258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B3FB-F1C0-4D95-B765-9EC15AE9F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A34E-A806-4183-99AC-A1D3161DE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88EF-1E79-4368-B68C-363D9A24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C56E-05A0-4082-ADFA-9CB8C442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0D7C-24CB-4152-A216-232A68FE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EF1E-5EEE-4B37-A9FE-61D37BC5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DF53-D8E0-470F-BD0E-E62669E8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18CC-A306-46C8-9C06-BC1136C4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3CC4-06DD-49B7-81B0-13BB1F90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B3D5-020B-4A4C-A219-BF1F6B47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43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5221-F11F-4BF4-92A9-941E6F9966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51"/>
          <p:cNvSpPr/>
          <p:nvPr/>
        </p:nvSpPr>
        <p:spPr>
          <a:xfrm>
            <a:off x="879480" y="792468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MT Black"/>
              </a:rPr>
              <a:t>F E B R U A R Y   -   2 0 1 8</a:t>
            </a: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9" name="Text Box 80"/>
          <p:cNvSpPr/>
          <p:nvPr/>
        </p:nvSpPr>
        <p:spPr>
          <a:xfrm>
            <a:off x="879480" y="1282680"/>
            <a:ext cx="55627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NSULTANCY SERVICES FOR DESIGN AND SUPERVISION OF RAIN WATER HARVESTING IN 9 ISLANDS (PACKAGE – V), MALDIVES</a:t>
            </a:r>
            <a:endParaRPr b="0" lang="en-US" sz="16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50" name="Picture 65" descr="stc"/>
          <p:cNvPicPr/>
          <p:nvPr/>
        </p:nvPicPr>
        <p:blipFill>
          <a:blip r:embed="rId1"/>
          <a:stretch/>
        </p:blipFill>
        <p:spPr>
          <a:xfrm>
            <a:off x="268200" y="8788320"/>
            <a:ext cx="525600" cy="252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4"/>
          <p:cNvSpPr/>
          <p:nvPr/>
        </p:nvSpPr>
        <p:spPr>
          <a:xfrm>
            <a:off x="1049400" y="8837640"/>
            <a:ext cx="363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92d050"/>
                </a:solidFill>
                <a:latin typeface="Tahoma"/>
                <a:ea typeface="Tahoma"/>
              </a:rPr>
              <a:t>SHAH TECHNICAL CONSULTANTS PVT. LTD.,  INDIA</a:t>
            </a:r>
            <a:endParaRPr b="0" lang="en-US" sz="1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2" name="Rectangle 64"/>
          <p:cNvSpPr/>
          <p:nvPr/>
        </p:nvSpPr>
        <p:spPr>
          <a:xfrm>
            <a:off x="1049400" y="9161640"/>
            <a:ext cx="199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Tahoma"/>
              </a:rPr>
              <a:t>IN ASSOCIATION  WITH</a:t>
            </a:r>
            <a:endParaRPr b="0" lang="en-US" sz="9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66600" y="77760"/>
            <a:ext cx="760320" cy="798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4"/>
          <p:cNvSpPr/>
          <p:nvPr/>
        </p:nvSpPr>
        <p:spPr>
          <a:xfrm>
            <a:off x="793800" y="66600"/>
            <a:ext cx="606420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 Black"/>
              </a:rPr>
              <a:t>MINISTRY OF ENVIRONMENT AND ENERGY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Black"/>
              </a:rPr>
              <a:t>MALE: REPUBLIC OF MALDIVES</a:t>
            </a:r>
            <a:endParaRPr b="0" lang="en-US" sz="16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55" name="Picture 20" descr="DTM1"/>
          <p:cNvPicPr/>
          <p:nvPr/>
        </p:nvPicPr>
        <p:blipFill>
          <a:blip r:embed="rId3"/>
          <a:stretch/>
        </p:blipFill>
        <p:spPr>
          <a:xfrm>
            <a:off x="260280" y="9340920"/>
            <a:ext cx="480960" cy="3906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96"/>
          <p:cNvSpPr/>
          <p:nvPr/>
        </p:nvSpPr>
        <p:spPr>
          <a:xfrm>
            <a:off x="965160" y="9437760"/>
            <a:ext cx="54770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fr-FR" sz="1000" spc="-1" strike="noStrike">
                <a:solidFill>
                  <a:srgbClr val="dedefa"/>
                </a:solidFill>
                <a:latin typeface="Tahoma"/>
              </a:rPr>
              <a:t>DEVELOPMENT TECHNOLOGIES MALDIVES, MALDIVES </a:t>
            </a:r>
            <a:endParaRPr b="0" lang="en-US" sz="10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57" name="Picture 16" descr=""/>
          <p:cNvPicPr/>
          <p:nvPr/>
        </p:nvPicPr>
        <p:blipFill>
          <a:blip r:embed="rId4"/>
          <a:stretch/>
        </p:blipFill>
        <p:spPr>
          <a:xfrm>
            <a:off x="3657600" y="4332240"/>
            <a:ext cx="2770200" cy="1916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"/>
          <p:cNvPicPr/>
          <p:nvPr/>
        </p:nvPicPr>
        <p:blipFill>
          <a:blip r:embed="rId5"/>
          <a:stretch/>
        </p:blipFill>
        <p:spPr>
          <a:xfrm>
            <a:off x="1103400" y="4359240"/>
            <a:ext cx="2554200" cy="1889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6"/>
          <a:stretch/>
        </p:blipFill>
        <p:spPr>
          <a:xfrm>
            <a:off x="1103400" y="2281320"/>
            <a:ext cx="2558880" cy="2077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\\Server\2017 projects\Maldives - 4 water supply documents\trs\co camera pics\105_2012\IMG_0051.JPG"/>
          <p:cNvPicPr/>
          <p:nvPr/>
        </p:nvPicPr>
        <p:blipFill>
          <a:blip r:embed="rId7"/>
          <a:stretch/>
        </p:blipFill>
        <p:spPr>
          <a:xfrm>
            <a:off x="3672000" y="2281320"/>
            <a:ext cx="2770200" cy="2077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8"/>
          <p:cNvSpPr/>
          <p:nvPr/>
        </p:nvSpPr>
        <p:spPr>
          <a:xfrm>
            <a:off x="0" y="64818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3a3c2"/>
                </a:solidFill>
                <a:latin typeface="Arial"/>
              </a:rPr>
              <a:t>V O L U M E  I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2" name="Text Box 38"/>
          <p:cNvSpPr/>
          <p:nvPr/>
        </p:nvSpPr>
        <p:spPr>
          <a:xfrm>
            <a:off x="0" y="69343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3a3c2"/>
                </a:solidFill>
                <a:latin typeface="Arial"/>
              </a:rPr>
              <a:t>B I D D I N G   D O C U M E N T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3" name="Text Box 38"/>
          <p:cNvSpPr/>
          <p:nvPr/>
        </p:nvSpPr>
        <p:spPr>
          <a:xfrm>
            <a:off x="0" y="746748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3a3c2"/>
                </a:solidFill>
                <a:latin typeface="Arial"/>
              </a:rPr>
              <a:t>E M P L O Y E R’S   R E Q U I R E M E N T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05:53:56Z</dcterms:created>
  <dc:creator>user</dc:creator>
  <dc:description/>
  <dc:language>en-US</dc:language>
  <cp:lastModifiedBy>stc123</cp:lastModifiedBy>
  <cp:lastPrinted>2016-04-26T05:25:12Z</cp:lastPrinted>
  <dcterms:modified xsi:type="dcterms:W3CDTF">2018-03-12T04:49:05Z</dcterms:modified>
  <cp:revision>259</cp:revision>
  <dc:subject/>
  <dc:title>Slide 1</dc:title>
</cp:coreProperties>
</file>